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7BEF-668C-46BF-9AD6-EEA60F343A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C5D7-AC76-4271-84FF-A2F70165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BC19-E8B7-4112-A3BB-D22E57E0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0355-F5FF-4FC4-90C0-9657ABD20D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75A77-1C71-4D26-967E-B1B7605C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B9EE-9CD7-4A5A-AEDA-CBB6074A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F3ED2-8660-4FA0-87F7-D1926028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5FDC-1E6A-457D-8C33-59C528DB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F8A3-B56F-4F53-A56A-30158A41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15B99-A92B-4D90-B7B7-3F31AC56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76857-D6DE-430A-8FD9-A930CA22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2FED-4609-43B4-9584-0D0BF893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F6B5-C8B7-4723-BA13-BA998E49B5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7993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九章  甲状腺激素与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抗甲状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4360" y="117360"/>
            <a:ext cx="754380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硫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硫氧嘧啶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thiouracil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丙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咪唑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imidazole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巯咪唑（他巴唑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卡比马唑（甲亢平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-166680"/>
            <a:ext cx="6051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体内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640" y="1272960"/>
            <a:ext cx="9001080" cy="52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口服易吸收，生物利用度 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80%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75%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氧嘧啶类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，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咪唑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~13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主要在肝代谢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易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通过胎盘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进入乳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妊娠和哺乳期应注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26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药理作用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70080"/>
            <a:ext cx="8655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甲状腺激素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抑制过氧化物酶，抑制酪氨酸的碘化和耦联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已经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成的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外周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转化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1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血中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TSI(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刺激性免疫球蛋白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含量下降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17360"/>
            <a:ext cx="604836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412640"/>
            <a:ext cx="89629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亢内科保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轻症、不宜手术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放射性碘治疗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的患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开始大剂量，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个月后视病情减量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状腺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功能控制正常，以便手术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增生充血，术前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周加服碘剂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亢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危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165240"/>
            <a:ext cx="75452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6720" y="1269720"/>
            <a:ext cx="775656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消化道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粒细胞缺乏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最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严重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甲状腺肿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肝损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190080"/>
            <a:ext cx="75438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碘和碘化物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(KI, NaI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及复方碘溶液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701720"/>
            <a:ext cx="8713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小剂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治疗单纯性甲状腺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大剂量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蛋白水解酶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释放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拮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SH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促进腺体增生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腺体缩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变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血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网减少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312408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640" y="909720"/>
            <a:ext cx="9002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术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危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合用硫脲类，危象消除即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血管神经性水肿、喉头水肿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、发热等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慢性碘中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诱发甲状腺功能紊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放射性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99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辐射（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射线等）损伤甲状腺实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功能诊断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①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亢时摄碘率高，摄碘高峰时间前移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②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减时摄碘率低，摄碘高峰时间移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功能亢进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四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β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肾上腺素受体阻断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2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控制交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肾上腺素系统兴奋所致症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心率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中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– 减轻焦虑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阻断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能神经末梢突触前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，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释放，适当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分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、甲亢危象辅助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术前准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掌握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硫脲类药物的药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熟悉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甲状腺激素的生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了解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碘和碘化物、放射性碘的药理作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5545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甲状腺激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2060280"/>
            <a:ext cx="853128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维持机体正常代谢、促进生长发育所必需的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甲状腺素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 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三碘甲状腺原氨酸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triiodo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0600" y="333000"/>
            <a:ext cx="9068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甲状腺激素的合成、贮存、分泌与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720" y="134280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碘的摄取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碘泵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腺泡细胞主动摄碘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浓集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中碘化物浓度为血中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，甲状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功能亢进时为血中的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0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 活性碘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球蛋白酪氨酸残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MIT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DIT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+ MIT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贮存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蛋白水解酶水解</a:t>
            </a: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释放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下丘脑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RH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垂体前叶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SH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合成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          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增生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4360" y="1886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0" y="1269720"/>
            <a:ext cx="91425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物利用度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5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75%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高达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9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以上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与蛋白质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亲和力低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其游离量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快而强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慢而弱，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但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维持时间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1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代谢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主要在肝、肾线粒体脱碘，与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酸或硫酸结合而排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可通过胎盘、进入乳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5840" y="188640"/>
            <a:ext cx="40896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理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720" y="1371600"/>
            <a:ext cx="829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维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长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分泌不足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→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呆小症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(cretinism)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          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黏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液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促进代谢和增加产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促进物质代谢，增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BMR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，产热增加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提高交感 – 肾上腺系统的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反应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C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反应性增加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神经过敏、震颤、心跳加快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血压升高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9041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6360" y="1486080"/>
            <a:ext cx="85186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减退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呆小病：重在预防和及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液性水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从小量开始，逐渐增大至足量避免诱发心血管疾病 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垂体功能低下时宜先用皮质激素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否则可导致急性肾上腺皮质功能不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1" lang="en-US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抑制试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过量引起心悸、多汗、失眠、发热等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心绞痛、心力衰竭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4428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第二节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抗甲状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</a:rPr>
              <a:t>抗甲状腺药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物种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脲类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碘化物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放射性碘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受体阻断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52:36Z</dcterms:modified>
  <cp:revision>4</cp:revision>
  <dc:subject/>
  <dc:title>第二十九章  甲状腺激素与                   抗甲状腺药</dc:title>
</cp:coreProperties>
</file>